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76E13-610F-4553-93A7-4B5B8D33F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D372-6BE2-4B32-954F-8E1891BB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1E5CA-4096-479F-95C4-C44D1E357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E9790-5981-47E2-B106-8543ECE61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B9DE6-BFFD-457A-9B61-4BCAC2631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AFCEF-49C8-419B-A0D5-15B8E4DA1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C9C74-2BBC-4371-8F29-B8F12B31D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21B86-154D-4A73-8C74-A8F6CB423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B3EA2-1F70-4696-BA4D-263A40405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D614C-23D7-442E-B398-0EB0E5503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F251-5EC0-4D84-9F82-DF54F205D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471BD-C613-46F5-8A40-BDF0C4839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54763-4903-4219-9EC6-338AD921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D2BFF-0709-43DB-B207-59C32CBB0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9CC78-7B47-4112-96B0-C11DC6A47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C6BAC-6F5C-4F7F-975D-C46439493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7CC4-FEEA-464D-B7FB-1FC70D706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9B07-63F7-4274-B4CD-AF61527C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D7A8-3E5D-4646-AC0F-EAD526D1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A5B3B-BA79-48E8-95EE-E34066DB9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CB341-AE80-4116-95D8-02CAC689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5B9F-F11E-43FD-B1FF-65B9A92B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CED9-C90F-4E33-9F0F-CAED28E1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D7C8-EA6D-4A66-B789-2744CF73D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BC07-91C4-436F-A456-588FA2D1D5E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3FBA-8133-4D08-8434-FA6A72CB653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ojamusic.com/photos" TargetMode="External"/><Relationship Id="rId2" Type="http://schemas.openxmlformats.org/officeDocument/2006/relationships/hyperlink" Target="http://www.grooveshark.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lum contrast="12000"/>
          </a:blip>
          <a:stretch/>
        </p:blipFill>
        <p:spPr>
          <a:xfrm>
            <a:off x="0" y="0"/>
            <a:ext cx="9144000" cy="6858000"/>
          </a:xfrm>
          <a:prstGeom prst="rect">
            <a:avLst/>
          </a:prstGeom>
          <a:ln w="0">
            <a:noFill/>
          </a:ln>
        </p:spPr>
      </p:pic>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SOJA</a:t>
            </a:r>
            <a:endParaRPr b="0" lang="en-US" sz="8000" spc="-1" strike="noStrike">
              <a:solidFill>
                <a:srgbClr val="b2b2b2"/>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oldiers of Jah Arm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oot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earson Bou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1" name="" descr=""/>
          <p:cNvPicPr/>
          <p:nvPr/>
        </p:nvPicPr>
        <p:blipFill>
          <a:blip r:embed="rId2"/>
          <a:stretch/>
        </p:blipFill>
        <p:spPr>
          <a:xfrm>
            <a:off x="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6209"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J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diers of Jah Army is a reggae band that released their first album in the start of 2000.  They are the roots of modern day reggae and are an inspiration to many.  Their inspiration Bob Marley speaks to everyone, and that’s what they’re trying to do.</a:t>
            </a:r>
            <a:endParaRPr b="0" lang="en-US" sz="2400" spc="-1" strike="noStrike">
              <a:solidFill>
                <a:srgbClr val="ffffff"/>
              </a:solidFill>
              <a:latin typeface="Arial"/>
            </a:endParaRPr>
          </a:p>
        </p:txBody>
      </p:sp>
      <p:pic>
        <p:nvPicPr>
          <p:cNvPr id="104" name="" descr="Band"/>
          <p:cNvPicPr/>
          <p:nvPr/>
        </p:nvPicPr>
        <p:blipFill>
          <a:blip r:embed="rId1"/>
          <a:stretch/>
        </p:blipFill>
        <p:spPr>
          <a:xfrm>
            <a:off x="4495680" y="1752480"/>
            <a:ext cx="4648320" cy="302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ggy Marley</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601992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Bob Marley, and an inspiration  to modern day reggae artists, Ziggy Marley incorporates different electronic effects to his peace reggae.  All of his songs are either about not fighting, or love.  He inspired SOJA with his flow of words, and type of music.</a:t>
            </a:r>
            <a:endParaRPr b="0" lang="en-US" sz="3200" spc="-1" strike="noStrike">
              <a:solidFill>
                <a:srgbClr val="ffffff"/>
              </a:solidFill>
              <a:latin typeface="Arial"/>
            </a:endParaRPr>
          </a:p>
        </p:txBody>
      </p:sp>
      <p:pic>
        <p:nvPicPr>
          <p:cNvPr id="107" name="" descr=""/>
          <p:cNvPicPr/>
          <p:nvPr/>
        </p:nvPicPr>
        <p:blipFill>
          <a:blip r:embed="rId1"/>
          <a:stretch/>
        </p:blipFill>
        <p:spPr>
          <a:xfrm>
            <a:off x="6610320" y="1447920"/>
            <a:ext cx="25336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b Marley</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 Marley is an inspiration to nearly every reggae band.  He preaches peace and love, and the music speaks to you whether your poor or rich or of a different race.  </a:t>
            </a:r>
            <a:endParaRPr b="0" lang="en-US" sz="3200" spc="-1" strike="noStrike">
              <a:solidFill>
                <a:srgbClr val="ffffff"/>
              </a:solidFill>
              <a:latin typeface="Arial"/>
            </a:endParaRPr>
          </a:p>
        </p:txBody>
      </p:sp>
      <p:pic>
        <p:nvPicPr>
          <p:cNvPr id="110" name="" descr=""/>
          <p:cNvPicPr/>
          <p:nvPr/>
        </p:nvPicPr>
        <p:blipFill>
          <a:blip r:embed="rId1"/>
          <a:stretch/>
        </p:blipFill>
        <p:spPr>
          <a:xfrm>
            <a:off x="4191120" y="3538440"/>
            <a:ext cx="4952880" cy="33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16680" y="3505320"/>
            <a:ext cx="2227320" cy="3352680"/>
          </a:xfrm>
          <a:prstGeom prst="rect">
            <a:avLst/>
          </a:prstGeom>
          <a:ln w="0">
            <a:noFill/>
          </a:ln>
        </p:spPr>
      </p:pic>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x Romeo</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Romeo is an important figure in the reggae roots, and has many different songs that have a more jazz/blues approach to them.  He inspired Bob Marley with his reggae flow and invested in the first couple albums of the Wail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e Higgs</a:t>
            </a:r>
            <a:endParaRPr b="0" lang="en-US" sz="4400" spc="-1" strike="noStrike">
              <a:solidFill>
                <a:srgbClr val="b2b2b2"/>
              </a:solidFill>
              <a:latin typeface="Arial"/>
            </a:endParaRPr>
          </a:p>
        </p:txBody>
      </p:sp>
      <p:pic>
        <p:nvPicPr>
          <p:cNvPr id="115" name="" descr=""/>
          <p:cNvPicPr/>
          <p:nvPr/>
        </p:nvPicPr>
        <p:blipFill>
          <a:blip r:embed="rId1"/>
          <a:stretch/>
        </p:blipFill>
        <p:spPr>
          <a:xfrm>
            <a:off x="7162920" y="3886200"/>
            <a:ext cx="1981080" cy="2971800"/>
          </a:xfrm>
          <a:prstGeom prst="rect">
            <a:avLst/>
          </a:prstGeom>
          <a:ln w="0">
            <a:noFill/>
          </a:ln>
        </p:spPr>
      </p:pic>
      <p:sp>
        <p:nvSpPr>
          <p:cNvPr id="116" name="PlaceHolder 2"/>
          <p:cNvSpPr>
            <a:spLocks noGrp="1"/>
          </p:cNvSpPr>
          <p:nvPr>
            <p:ph/>
          </p:nvPr>
        </p:nvSpPr>
        <p:spPr>
          <a:xfrm>
            <a:off x="0" y="11426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e Higgs is easily one of the biggest people in reggae music and is known as the father of reggae, although most people would not know his name he was a mentor for Bob Marley, and other members of the Wailers.  His music is an inspiration to all and he puts every drop of his soul into every syllable and not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should all live as one, like the colors of the rainbow."</a:t>
            </a:r>
            <a:br>
              <a:rPr sz="3200"/>
            </a:br>
            <a:r>
              <a:rPr b="0" lang="en-US" sz="3200" spc="-1" strike="noStrike">
                <a:solidFill>
                  <a:srgbClr val="ffffff"/>
                </a:solidFill>
                <a:latin typeface="Arial"/>
              </a:rPr>
              <a:t>- from Joe Higgs' "Unity Is Power" (1979)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bliography</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Higgs." Google Images. 2010, http://www.furious.com/perfect/joehiggs.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 Marley." Google Images. 2010, http://www.sixtyseconds.nl/upload/04-bob-marley-082107.jp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ny Kuo, "SOJA" SOJA music. 2010, </a:t>
            </a:r>
            <a:r>
              <a:rPr b="0" lang="en-US" sz="2400" spc="-1" strike="noStrike" u="sng">
                <a:solidFill>
                  <a:srgbClr val="ffffcc"/>
                </a:solidFill>
                <a:uFillTx/>
                <a:latin typeface="Arial"/>
                <a:hlinkClick r:id="rId1"/>
              </a:rPr>
              <a:t>http://sojamusic.com/phot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Ziggy Marley”.  MTV Images. 2010, http://www.clickthecity.com/img2/articles/CTC-1571-image4.jp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Romeo" Google Images.  2010,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http://www.grooveshark.co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4:28:33Z</dcterms:created>
  <dc:creator>pebounds7</dc:creator>
  <dc:description/>
  <dc:language>en-US</dc:language>
  <cp:lastModifiedBy>pebounds7</cp:lastModifiedBy>
  <dcterms:modified xsi:type="dcterms:W3CDTF">2010-11-23T14:52:28Z</dcterms:modified>
  <cp:revision>4</cp:revision>
  <dc:subject/>
  <dc:title>SOJA</dc:title>
</cp:coreProperties>
</file>